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4AB1A-B02A-4709-BB4D-BCE3E83D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34EB2-98B8-483C-849F-218AEBE6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391BE-74A2-440A-8BB8-5FE82BED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91B25-BFC1-4B48-BCA1-17D62E80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9A2A-D6A7-4F95-9DF0-884BF4B4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A99C-4460-4FFD-AE1D-0ED8F0FE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EB5B-91BB-4F15-87B1-9B12ABF7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EA2C-3932-4684-9B25-E7AD66C8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6B43-00AE-42DA-858E-585BEDD6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6390-AF28-4B5D-B1F1-012269A2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DDA0-7D24-4345-B801-11DB8153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8AC4E-F4B3-4DE0-B5BF-33F0A49B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4E18-6DB7-449B-AC26-76A0EF08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A054-E5D8-42D0-B508-6FAE25B3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E706-9408-425A-AD41-6E275EB9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6291-4D8C-4009-8947-3EFB43F2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9177-A5C3-4B90-9D28-E109539A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EFBE4-7E32-4907-AA19-F5B2C1E6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C645E-016D-45F5-800F-6A16CAC2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7A887-1D41-4411-A58D-9F36C8C6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C8A91-9B02-4B81-A868-A6CD843C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A1AD5-BA7F-4441-9386-166866E3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750DB-2583-4CE9-8857-F17F3518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2E8CC-C487-4B7A-8342-60BC88BC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6AF5-4930-4A83-B05C-B56280C3B1C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4072-C8C7-4C6C-AFB8-6F2651BFC4D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Copperplate Gothic Bold"/>
              </a:rPr>
              <a:t>GRAN APERTUR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¡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legon pronto para recibir dos por un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ntrada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 Reciben 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la taquill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 hay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col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para entrar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El Cine de Santo Domigo tiene mucha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utaca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omodo.  Antes de pelicula empezar, compron la soda y las meriendas en la tienda de merienda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6019920" cy="129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1828800" y="380880"/>
            <a:ext cx="56386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  <a:ea typeface="Tahoma"/>
              </a:rPr>
              <a:t>¡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AN APERTURA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El Cine de Santo Domin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2210040" cy="2971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23880" y="1600200"/>
            <a:ext cx="175284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herlock Holmes: A Game Of Shadows” es en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El Cin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de Santo Domigo en viernes dieciseis de Diciembre.  La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pelicula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es en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version original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 Tiene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subtítulos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n espanol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1600200"/>
            <a:ext cx="1752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obert Downey Jr., Jude Law, Noomi Rapace y Jared Harris son en la pelicula. La pelicula es muy magnifico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3:26:21Z</dcterms:created>
  <dc:creator>greenmat</dc:creator>
  <dc:description/>
  <dc:language>en-US</dc:language>
  <cp:lastModifiedBy>greenmat</cp:lastModifiedBy>
  <dcterms:modified xsi:type="dcterms:W3CDTF">2011-12-23T18:20:06Z</dcterms:modified>
  <cp:revision>6</cp:revision>
  <dc:subject/>
  <dc:title>GRAN APERTURA</dc:title>
</cp:coreProperties>
</file>